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9.jpeg" ContentType="image/jpe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628-A4DA-4232-8C1A-28D3B9735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34B1-F487-4867-A6C0-BBA40066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CF4-3B98-47CE-9E26-3AFC870F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C18-EB95-4863-9ABD-EB43E5E5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A64D-8AA2-433E-ADFD-D78C883A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8663-D726-4388-B72C-EA68CB8D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F2FD-EF6D-42A3-9482-209E7F52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9F18-DDA9-4D5D-B661-F9D18806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24C8-D287-4114-A2C2-AAF578E6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0391-0389-482E-B4B2-B0BB0338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7F72-F2AA-4151-AB04-D025476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21A-6B68-494B-8DD5-12A4EEA9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493-E028-4376-8122-EAFF7FBE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B473-6EBE-4BD0-8599-373E730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D54C-7B7B-4F3B-A60E-3EF2B034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BD3F-312D-4E37-A01A-44466AA4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2F2E-71A0-4C82-BD7B-AEFBD5EAC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000C0-54B7-4DBE-A656-CFDA90E4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692C-EEF9-41B8-8326-105E845A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2238D-B287-4C72-92CE-C5020C8B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FADD-5DB7-4054-BCDC-28F79D02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C39E4-C0EB-49F0-9519-9E5B45A6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7352-58BA-4BC7-958C-9A8F3CF3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E9FCA-8AD3-46C1-8A87-FBCD0615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F664F-821A-40BB-8D14-116AB38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4211-0A78-4F86-9141-50F5F85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11E1-C047-4B08-8265-4A90432B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CC39B-3B04-4D65-8F2E-8DF23D11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A7738-3053-45B5-8EBC-853D38B8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0D38-293C-4BCD-8602-F80B993A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2CC63-F963-47EC-8C3B-AEEC2B0D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3BBA-BE5E-4647-B2BE-2AB81F49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00839-AF5A-4779-B119-AAD58007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017-51DE-4E88-B3CB-690C4071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8E8C3-5BD0-4641-8E28-5A81C791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38812-CE35-4572-9299-F9A0C7D0C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DA720-5458-4DA4-BF63-32564506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A642-3A61-4ACC-B510-6812662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4D92E-2FD3-411B-8745-B20BB640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B00B5-C2B9-4662-85DF-C69AD86D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A9CA-88FA-48E0-B1EB-ECF20B81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A5BC-4EF4-42E9-A08B-7426E005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BD28-9866-4ABA-9FD4-54398A48A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838A-721C-474E-AA01-93CCD6CBD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C19E-7D39-44E2-BA17-60BA0FD7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0A622-F69F-42D5-B5AE-995662E2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CF903-DDAC-490A-9B72-8A23E851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C8596-9449-49FF-8139-6696F04E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3667B-D616-4627-8AD7-1CF548B6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8448-C055-4B5A-BC98-1F3FE1B5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5E1AC-D024-4810-AAF5-99833A6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280D3-2601-4B58-A305-847BAC16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982C8-73CD-4415-973F-6DE187C3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F53DD-2235-4B7C-9DD8-E598461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AA4A5-19CD-45E0-AC82-CCAC92B7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B92B-17DE-41D8-B02E-37FA4268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5D7DA-3ACB-4CA8-A22F-AD70E2E2F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F10BC-1D9F-4C6F-ABAA-2BA410C6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3D24D-0D27-4ADF-B825-0335BDDA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0A3E8-5340-406A-8C19-C3A48948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D89C-25C4-4ED6-8C15-2620045D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ADC9D-A738-45DE-B191-F0BA83A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58D96-645A-4C3E-B6B4-E54E336E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B811D-0315-42AB-BB09-3D07E36B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B6D9-A8CD-44DE-A700-6AE97408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708DD-A671-4C68-A3A5-A30272A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9454-58BD-40BE-A5A1-FC1419A0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440B-0BA7-4AEF-BDAF-0EB85DB4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4D328-6A47-4FB8-BF49-2F9C8DC6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4ECC4-DA15-4FE0-AE04-4770F1E10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20022-7D7B-46CE-9DFD-B9DD1F7D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6A89-A6AB-4136-9CD1-CF7BB1D4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0E49C-89DC-4809-9E23-3028F4E0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59580-15AF-4CB5-8715-2265410E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E5DB20-CFDA-4662-AF3A-974B68D0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683DA-8BE9-47DC-A072-011425DA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278F8-4EB8-42CC-B35B-7463236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69E-8437-4942-9DE6-AF5D43A8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52C7F-E6D8-401D-B4FB-57BCD2BF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12C74-7035-4BD1-B8E5-C32E3FDF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56FBB-D395-497D-8CC6-35116E88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52787-85D1-4E4E-BF68-23C233C1F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2E3B6-9369-4BE3-939A-3274A394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AC023-5FFC-4469-8D5C-BD64A3DF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85E2B-441D-4208-8C22-3CE21FEB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57DDA-4402-4477-AB9A-F12B0361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32408-9C27-4511-A316-4F935C4D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C1EFE-9D0B-480A-9C5C-B2542BC4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6D2A-B6E4-42DF-A883-DC88E2B5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96476-41BC-4C20-8403-932E3C70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DEA25-4B09-4F07-A37C-95B713D6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9E515-4A1B-4AEB-A474-A346D715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3B8B-A887-454B-92E0-B7EB2721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18594-4050-449F-9BE8-FE9415BA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357AF-9937-4586-91E3-C507C7401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10CB1-4421-4493-A956-69B6A513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764F-79B4-410E-A910-81FFEB19B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CCE1-4BCB-4F2F-9EC1-2DA5626C97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7316-8BC5-46D9-92AD-3472152D1B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CC53-C05C-45A1-865D-262D40EE49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F0A9-BEA5-4708-BE9C-D36A78A2157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DAF-920A-499B-B685-26DCC97D2E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D736-1AD8-465F-B309-1EC918AC3B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9A9-E289-45E6-973C-B384FB36C1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785000" cy="148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24000" y="2060280"/>
            <a:ext cx="8462880" cy="143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пецифичности сестринске анамнезе</a:t>
            </a:r>
            <a:r>
              <a:rPr b="1" lang="en-US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Циљеви и задаци здравствене неге – општи ставов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7" descr="C:\Users\Mirjana Petrovic\Desktop\images_fotografije_Broj45_sum-na-srcu.jpg"/>
          <p:cNvPicPr/>
          <p:nvPr/>
        </p:nvPicPr>
        <p:blipFill>
          <a:blip r:embed="rId2"/>
          <a:stretch/>
        </p:blipFill>
        <p:spPr>
          <a:xfrm>
            <a:off x="2627280" y="4292640"/>
            <a:ext cx="3457440" cy="25653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C:\Users\Mirjana Petrovic\Desktop\dana.jpg"/>
          <p:cNvPicPr/>
          <p:nvPr/>
        </p:nvPicPr>
        <p:blipFill>
          <a:blip r:embed="rId3"/>
          <a:stretch/>
        </p:blipFill>
        <p:spPr>
          <a:xfrm>
            <a:off x="0" y="4292640"/>
            <a:ext cx="2627280" cy="25653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9" descr="C:\Users\Mirjana Petrovic\Desktop\images.jpg"/>
          <p:cNvPicPr/>
          <p:nvPr/>
        </p:nvPicPr>
        <p:blipFill>
          <a:blip r:embed="rId4"/>
          <a:stretch/>
        </p:blipFill>
        <p:spPr>
          <a:xfrm>
            <a:off x="5867280" y="4292640"/>
            <a:ext cx="3276720" cy="2565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50560" y="1844280"/>
            <a:ext cx="8677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Приликом збрињавања терминално оболелих, медицинско особље наилази на бројне проблеме, од терапијских могућности и избора најадекватнијег начина купирања најчешће присутног бола, до психосоцијалних проблема болесника и породице, као и за израженом потребом за очувањем преосталог квалитета живота оболелог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24000" y="1052280"/>
            <a:ext cx="8820000" cy="53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еопходно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је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 стећи сазнања о свим аспектима пали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ј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ативног збрињавања који се односе на пацијента (спровођење процеса здравствене неге ради задовољења потреба, примењивање симптоматске терапије) и породицу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и у том смислу је потребна посебна едукација и усавршавање тима стручњака (поред медицинске сестре као незаобилазног члана тима, лекари различитих специјалности, психолог, социјални радник, физиотерапеут, свештеник)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50920" y="1280880"/>
            <a:ext cx="8748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Палијативна нега почиње сазнањем да се више ништа не може постићи лечењем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Време преживљавања је индувидуално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ависи од основне болести и приступа нези. Адекватна симптоматска терапија је основа у овој фази. Фокус болесника се преусмерава са спољњег света ка себи. Важно је болеснику и његовој породици пружити задовољење физичких, емоционалних и духовних потреба, омогућити највећи могућ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квалитет живота болеснику у датој ситуациј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95280" y="549360"/>
            <a:ext cx="874872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Најбоља могућа нега се остварује сарадњом свих чланова тима и чланова породице болесника. Медицинска сестра и чланови тима осећањем емпатије  пружају подршку оболелом и породици, остварују комуникацију која доприноси успостављању поверења, информисању, смањењу емоционалне напетости и унапређењу међуљудских односа. Стална нега за болесника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његову породицу у једном од најинтимнијих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Lucida Sans Unicode"/>
              </a:rPr>
              <a:t>најделикатнијих тренутака у животу може бити најдрагоценији дар који се пружа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676440" y="1547640"/>
            <a:ext cx="7785000" cy="17020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C:\Users\Mirjana Petrovic\Desktop\Doktori-lekari-bolnica-medicinska-sestra-foto-ilustracija-profimedia.jpg"/>
          <p:cNvPicPr/>
          <p:nvPr/>
        </p:nvPicPr>
        <p:blipFill>
          <a:blip r:embed="rId2"/>
          <a:stretch/>
        </p:blipFill>
        <p:spPr>
          <a:xfrm>
            <a:off x="0" y="3716280"/>
            <a:ext cx="4789440" cy="31417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3" descr="C:\Users\Mirjana Petrovic\Desktop\unnamed (1).jpg"/>
          <p:cNvPicPr/>
          <p:nvPr/>
        </p:nvPicPr>
        <p:blipFill>
          <a:blip r:embed="rId3"/>
          <a:stretch/>
        </p:blipFill>
        <p:spPr>
          <a:xfrm>
            <a:off x="4788000" y="3716280"/>
            <a:ext cx="4356000" cy="31417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317520" y="1206360"/>
            <a:ext cx="8240760" cy="12812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0" y="2852280"/>
            <a:ext cx="91440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дефинициј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З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Virdžinija</a:t>
            </a:r>
            <a:r>
              <a:rPr b="0" i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Henderson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...професионалн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дручј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д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едицинских сестар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ружањ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моћ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јединц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групи ил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аједниц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кад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њим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недостај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наг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вољ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нањ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Rectangle 2" descr=""/>
          <p:cNvPicPr/>
          <p:nvPr/>
        </p:nvPicPr>
        <p:blipFill>
          <a:blip r:embed="rId1"/>
          <a:stretch/>
        </p:blipFill>
        <p:spPr>
          <a:xfrm>
            <a:off x="536400" y="914400"/>
            <a:ext cx="8242560" cy="12859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468360" y="2276640"/>
            <a:ext cx="850752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маж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човек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дручј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дравствен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нег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р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зличитим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нивоим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дрављ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ачећ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д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мрт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ер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којој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он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т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ниј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тању: д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враћа, подиж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пособност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амонег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или д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могн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рихва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ебе какав јест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да достојанствен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живи, мирно дочека крај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Rectangle 2" descr=""/>
          <p:cNvPicPr/>
          <p:nvPr/>
        </p:nvPicPr>
        <p:blipFill>
          <a:blip r:embed="rId1"/>
          <a:stretch/>
        </p:blipFill>
        <p:spPr>
          <a:xfrm>
            <a:off x="317520" y="1133640"/>
            <a:ext cx="8240760" cy="128556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95280" y="2781000"/>
            <a:ext cx="874872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истематск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етод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кој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руж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индивидуалну здравствен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нег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смерен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на појединц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групу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људ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рем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њиховим актуелним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отенцијалним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проблемима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ПЗН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метод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) 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ЗН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аук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820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ложе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ишеетапна метод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снова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пште научним принцип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 принцип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 максимал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лагође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довољавању индивидуалних потреб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/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 нег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разуме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ланск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истематски рад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нтрол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вер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артиципаци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јединц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 друг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левантн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убјекат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могућава успеш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зултат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вој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в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че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роз узајамн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мен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н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скуст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 разумев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32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Значај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становишт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Корисник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активн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чесник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безбеђу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нтинуитет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стиж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сећај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игурност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довољств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евенира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енцијалн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блем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Штићеник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обиј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валитетни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зитивн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ич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ствен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ање, на квалитет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жив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краћу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врем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хоспитализ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естринск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анамнез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куп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података 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болеснику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кој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медицинск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естра прикупљ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разговором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физикалним прегледом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циљу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постављања сестринск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дијагноз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утврђивање потреб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егом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Им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етрински приступ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усмерен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је н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болесника, његово стањ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реаговањ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болест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463680" y="689040"/>
            <a:ext cx="8242200" cy="1152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начај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тановишт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естринств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М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етод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страживачка, омогућа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евалуаци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 развој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тв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П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име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руч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савршавај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Р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азвиј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ритичк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аузал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апстракт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ишљењ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О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огућа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савршав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окументације здравств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зрад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ормати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ндар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клађу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д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г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и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О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огућа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виј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литератур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ј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з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П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иж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тринск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феси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иши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ложениј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ив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sr-R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вај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вакоднев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ути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82000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гионал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иро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лужб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тв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)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 Европ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З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пенхаген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(1980)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оји дефинициј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"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мишљен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проблемск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оријентисан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иступ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кој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кључује принцип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ауч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метод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довољавању потреб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људ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т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ода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стој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четири узастоп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етап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: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ланирањ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име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 евалуациј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схо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532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Лукман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оренсен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Luckman</a:t>
            </a:r>
            <a:r>
              <a:rPr b="0" i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J</a:t>
            </a:r>
            <a:r>
              <a:rPr b="0" i="1" lang="sr-Latn-CS" sz="2700" spc="-1" strike="noStrike">
                <a:solidFill>
                  <a:srgbClr val="464646"/>
                </a:solidFill>
                <a:latin typeface="Lucida Sans Unicode"/>
              </a:rPr>
              <a:t>.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,Sorensen</a:t>
            </a:r>
            <a:r>
              <a:rPr b="0" i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K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.)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да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во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ефиницију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(1980)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"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здравствене неге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систем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међусобно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повезаних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и међузависних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проблемски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оријентисаних корак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к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задовољавању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и њему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значајних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блиских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особа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“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ДЕФИНИЦИЈ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аучно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снован систем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рад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г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радника 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медицинск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естр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),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смерен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а идентификовањ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решавањ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треба појединц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родиц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једниц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кој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изилаз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з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њихових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реаговањ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а здравстве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блем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друг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животне ситуациј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вез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дрављем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748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Oбезбеђу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рганизован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тод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уж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 неге, спреча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пуст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потреб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нављања, обезбеђу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љ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муникацију, усмерен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дивидуал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динствене људ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акције, обезбеђу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лексибилност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ужању индивидуал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Н, охрабру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чествов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лесника, помаж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се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довољство постигнут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зултат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Picture 2" descr="C:\Users\Mirjana Petrovic\Desktop\unnamed (2).jpg"/>
          <p:cNvPicPr/>
          <p:nvPr/>
        </p:nvPicPr>
        <p:blipFill>
          <a:blip r:embed="rId1"/>
          <a:stretch/>
        </p:blipFill>
        <p:spPr>
          <a:xfrm>
            <a:off x="5724360" y="260280"/>
            <a:ext cx="3168720" cy="144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9280" y="1052280"/>
            <a:ext cx="86043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Предуслови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за спровођење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ПЗН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н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обр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рганизациј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мењује неопход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ритеријум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андард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 нормативе: рад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адр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време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опрем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ационализац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конск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емеље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врсисход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 применљив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стринск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окумент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имс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арадњ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8200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одвија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кроз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следеће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етапе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дентифико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еаго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ствени пробле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руг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животн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итуаци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 незадовоље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раже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азматр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дабир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јбоље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чина 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довоља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болесникових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мен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дабран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ступ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ступ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нтинуиран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вредно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вак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ра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1361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Глав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фаз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ви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обичајеним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итуацијам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одвијај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ледећим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редоследом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 нег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вар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стринск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ијагноз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ланир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еализо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ланираних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активност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Евалуациј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вредно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95280" y="1628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 нег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фа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роз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 прикупља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цењу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дац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 субјективн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бјективн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ању појединц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родиц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груп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једнице, 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колностим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јим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стао здравствен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бле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чи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ешавање 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руч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моћ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лужбе здравстве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820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естринс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ијагно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издвојил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ка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посеб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етапа проце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редин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70-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год.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прошлог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ве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када 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Америчк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руштв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медицинск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естар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(</a:t>
            </a:r>
            <a:r>
              <a:rPr b="0" i="1" lang="en-US" sz="2400" spc="-1" strike="noStrike">
                <a:solidFill>
                  <a:srgbClr val="464646"/>
                </a:solidFill>
                <a:latin typeface="Lucida Sans"/>
              </a:rPr>
              <a:t>А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)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 прихватил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озаконил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употреб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ов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терми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Чињениц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прихват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естринс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ијагноз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  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уследил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низ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годи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посл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почет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ра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процес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издвај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посебн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фаз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још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касн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говор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а 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твар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естринс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ијагноз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изузет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ложена активност,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медицинс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сестр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дуг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развијале процес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ка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теоријск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"/>
              </a:rPr>
              <a:t>модел</a:t>
            </a:r>
            <a:r>
              <a:rPr b="0" lang="sr-Latn-CS" sz="2400" spc="-1" strike="noStrike">
                <a:solidFill>
                  <a:srgbClr val="464646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23640" y="981000"/>
            <a:ext cx="8675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иступ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редослед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икупљањ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датак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 утврђивањ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треб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его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формирањ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етринск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анмнез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тежин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тања болесник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тепен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италн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гроженост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ритични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итуацијам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во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довоље тренутн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италн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треб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болесник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то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иступ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икупљањ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 документовањ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датак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рад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тврђивања сестринск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ијагноз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ланирањ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дравствене нег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з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икупљених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датак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естр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дентификује проблем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ласификуј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х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ем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иоритет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 унос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лан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дравствен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ег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60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ланир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а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 природн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дослед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стављ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л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зведених закључ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 проблем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носно реаговањ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блем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сказан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 сестринск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ијагноза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ој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аз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дицинска сестр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ош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д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анализир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тврђ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 нег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квир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његовог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целокупног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ретма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 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снов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к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ијагноза,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абер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ратегију 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мостал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активнос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Picture 2" descr="C:\Users\Mirjana Petrovic\Desktop\unnamed (3).jpg"/>
          <p:cNvPicPr/>
          <p:nvPr/>
        </p:nvPicPr>
        <p:blipFill>
          <a:blip r:embed="rId1"/>
          <a:stretch/>
        </p:blipFill>
        <p:spPr>
          <a:xfrm>
            <a:off x="4788000" y="4437000"/>
            <a:ext cx="3525840" cy="22179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748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Планирање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неколико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секвенци</a:t>
            </a:r>
            <a:r>
              <a:rPr b="1" lang="sr-Latn-CS" sz="32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здвај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орите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тављ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циљев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матр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огућ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ратешк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ступ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узим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лекарск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лог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збор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ормулис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говарајућ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ких налог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окументов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ланиран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активнос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лужбе здравств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мостал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вис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 међузавис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ункци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Реализациј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лан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обухват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број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естринск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активност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ао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што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посред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уж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физич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циљ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чувањ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унапређивањ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естаурац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љ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дучав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његов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родиц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 намер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квири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њихов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ћ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способе 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узим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монег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стве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аспит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циљ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ветовања болесни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родиц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чувај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чи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живота, и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ењај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лагођавај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змењеној ситуациј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а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н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аће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це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нако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импто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ругих поја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лаговременог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ткривањ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 превенирањ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енцијалн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звође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ијагностичк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ерапеутск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нтервенц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914400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Медицинск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естр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роз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в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вој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активност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треба интензивно, свесно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одржав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наге болесник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/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циљем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ач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његов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ви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опств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гућност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 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крећ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мог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к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гледа, прихвати помоћ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дршк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лаз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родиц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јатељ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дног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ест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з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руштв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једниц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мог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к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ришћењем постојећ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есур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безбе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јбољ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гућа нег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стојанстве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дуктива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живо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држа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мопоштов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звиј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птимизам болесни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удућно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Евалуациј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као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део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себн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нтервенц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ј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ез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циљ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твр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грес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тизањ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циље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двиђених план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нос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твр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лик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е сестринс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луж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тигл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довољавању болесников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твр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ефикаснос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стринског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иниоц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ји с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тица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зитивном, негативн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ил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 успешнос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твр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лик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принос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 целокупн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ретман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твр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лик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спеш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бављ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етапе проце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вар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рпус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пецифичн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стринск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нањ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ја доприно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звој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еор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ак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стринст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ао посеб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ук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Фазе</a:t>
            </a:r>
            <a:r>
              <a:rPr b="1" lang="sr-Latn-CS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r>
              <a:rPr b="1" lang="sr-Latn-CS" sz="36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здравствене неге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це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сихофизичк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болесника 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стринс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ијагно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лаборативни пробле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Циљев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гра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лан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еализациј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Евалуац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6040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ОТРЕБА З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ређе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рганиз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ли социјал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итуац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то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зависно о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вест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љу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лаз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ању наруш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иолош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сихич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оцијалне равнотеж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еговањ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обухват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гледав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зналаже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говарајућ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чи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 помог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довољавањ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 нег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рђу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снову проце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љ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ствен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ањ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снов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агледавањ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физичк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психичк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оцијалн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јединц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груп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једниц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Picture 2" descr="C:\Users\Mirjana Petrovic\Desktop\szzos_1.jpg"/>
          <p:cNvPicPr/>
          <p:nvPr/>
        </p:nvPicPr>
        <p:blipFill>
          <a:blip r:embed="rId1"/>
          <a:stretch/>
        </p:blipFill>
        <p:spPr>
          <a:xfrm>
            <a:off x="4716360" y="4005360"/>
            <a:ext cx="3419640" cy="25588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9144000" cy="55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КЛАСИФИКАЦИЈ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лоз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ма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човеков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живот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примар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-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кундар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танк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наслеђ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-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ече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руч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човековог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живот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иолош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-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оцијал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спрострањенос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дивидуал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-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гионал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-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ниверзал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86756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ИМАРН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имар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биолошк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имар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оцијал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имар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билошк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атерија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хра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о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исеоник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елиминациј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краћа, столиц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чување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сихофизичког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нтегритет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павање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мор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ксуални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довољавањем повеза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епродукциј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ржавањем чове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а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иолошк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рст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000" y="1341000"/>
            <a:ext cx="8675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ЗНАЧАЈ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ВОЂЕЊА ДОКУМЕНТ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вак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истематск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рад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заснив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а адекватн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формулисаној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квалитетној документациј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Т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однос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процес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здравствене нег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јер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ак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ешт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ије документован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мож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матрат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да није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н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урађен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Значајно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аспект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сестар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и пацијената</a:t>
            </a:r>
            <a:r>
              <a:rPr b="1" lang="sr-Latn-CS" sz="2700" spc="-1" strike="noStrike">
                <a:solidFill>
                  <a:srgbClr val="000000"/>
                </a:solidFill>
                <a:latin typeface="Lucida Sans Unicode"/>
              </a:rPr>
              <a:t>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324000" y="1424160"/>
            <a:ext cx="8820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имар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оцијал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итал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смета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функционис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ове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људској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једниц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фирмациј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утореспек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стиж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руштвом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љубављ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оцијални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нформизм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клада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нос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редин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мен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јат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живљаји, искуст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утоактуелизацијом 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моостварење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8893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Abraham</a:t>
            </a:r>
            <a:r>
              <a:rPr b="1" i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Maslov</a:t>
            </a:r>
            <a:r>
              <a:rPr b="1" i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тављ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дел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хијерарх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људских 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ид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ирамид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јој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физиолошке потреб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тављ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аз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ирамиде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в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стале 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њени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иши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ивои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снов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људс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рганизова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хијерархијск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елативн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минациј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јединих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матр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ављ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ледећ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хијерархиј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ста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а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ђ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довољењ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тходн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хијерахиј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знав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хијерарх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нос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псолут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елатив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минац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аж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актично значењ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ственој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з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52000" y="1773360"/>
            <a:ext cx="8891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464646"/>
                </a:solidFill>
                <a:latin typeface="Lucida Sans Unicode"/>
              </a:rPr>
              <a:t>Ričard</a:t>
            </a:r>
            <a:r>
              <a:rPr b="1" i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700" spc="-1" strike="noStrike">
                <a:solidFill>
                  <a:srgbClr val="464646"/>
                </a:solidFill>
                <a:latin typeface="Lucida Sans Unicode"/>
              </a:rPr>
              <a:t>Kalish</a:t>
            </a:r>
            <a:r>
              <a:rPr b="1" i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четк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8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0-тих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год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.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XX века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i="1" lang="en-US" sz="2700" spc="-1" strike="noStrike">
                <a:solidFill>
                  <a:srgbClr val="464646"/>
                </a:solidFill>
                <a:latin typeface="Lucida Sans Unicode"/>
              </a:rPr>
              <a:t>Maslovljev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модел прилагоди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м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ствене нег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ак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што 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физиолош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 подели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в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груп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пстан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еживљавањ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имул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324000" y="2060280"/>
            <a:ext cx="882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Човек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авил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ад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довољ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пстан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пр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смер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виш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ив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еж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а задовољ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имулаци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мер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ју дозвољав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његов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ствен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слов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 којим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уж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стве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642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Virdžinija</a:t>
            </a:r>
            <a:r>
              <a:rPr b="1" i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Henderson</a:t>
            </a:r>
            <a:r>
              <a:rPr b="1" i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60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о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. XX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ве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чинил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дел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14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сновн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ове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овор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ао компонентама здравств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дел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сни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 опште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нцип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стве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изилаз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з основн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ове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мењу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д здрав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људ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бухват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вентив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 куратив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спек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стринст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дел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464646"/>
                </a:solidFill>
                <a:latin typeface="Lucida Sans Unicode"/>
              </a:rPr>
              <a:t>Henderson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заснова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нцепциј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 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лог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едицинске сестр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пецифич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васходно усмере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маж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овек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–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о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ли болесном, 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функциониш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клад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војим основни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треба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нос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вар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слов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ји ћ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моћ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ремеће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фукц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шт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рат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и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ак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мог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лакш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мирањ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Модел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000" spc="-1" strike="noStrike">
                <a:solidFill>
                  <a:srgbClr val="464646"/>
                </a:solidFill>
                <a:latin typeface="Lucida Sans Unicode"/>
              </a:rPr>
              <a:t>Henderson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обухвата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основне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компоненте човека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физиолошку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емоционалну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социјалну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интелектуалну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које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остварују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кроз</a:t>
            </a:r>
            <a:r>
              <a:rPr b="1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следеће (1-14)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1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Дисањ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2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нос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течност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хран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3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Елиминацију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кроз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св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путев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4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Покрет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ржав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жељеног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положај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тел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ход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седе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 лежање, промен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положај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5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Сан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мо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6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абир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говарајућ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ећ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блаче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свлачењ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7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ржав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телесн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топлот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нормалним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границам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 прилагођавањем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евањ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модификовањем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слов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колин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8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ржав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чистоћ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тел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дговарајућ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блаче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заштит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кож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 слузокож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9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збегав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тклањ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пасност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з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кружењ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10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Комуницир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другим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циљу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спуњавањ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емоциј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     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 страхов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11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Поштов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болесникових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веровањ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беђењ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12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Рад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нечему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што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ствар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сећ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спуњеност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задовољств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13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гр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чествов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разним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блицим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рекреациј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14.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Уче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открић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нова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сазнања, задовољавање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радозналост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која воде нормалном развоју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464646"/>
                </a:solidFill>
                <a:latin typeface="Lucida Sans Unicode"/>
              </a:rPr>
              <a:t>здрављу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V</a:t>
            </a:r>
            <a:r>
              <a:rPr b="1" i="1" lang="sr-Latn-CS" sz="24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Henderson</a:t>
            </a:r>
            <a:r>
              <a:rPr b="1" i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авод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дв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груп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чиниоц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ј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утичу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егом,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атолошк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довод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до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омен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у основним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људским потребам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Осетан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ремећај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иланс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течност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електролит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кључујућ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гладовањ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тешк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одуже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враћањ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дијареј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Акут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исеоник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Шок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кључујућ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лапс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рвављењ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ремаћај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вест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–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есвестиц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м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делирију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зложеност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хладноћ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топлот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мож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зазов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начај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ремећај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ТТ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Акут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фебрил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ез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обзир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зрочник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Локалн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вред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ран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нфекциј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нтактибил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нфектив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еоперативн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ањ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стоперативн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ањ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мобилизациј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–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след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т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а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описан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третма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олонгиран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порн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век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исутн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тич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а основн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људск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зрас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оворођенч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ет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лад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соб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рас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редње до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ар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мирућ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ц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емперамен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емоционал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лазн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сположење 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омал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еуфорично, хиперактивно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нксиоз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уплаше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гитира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хистерично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епресивно, хипоактивн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оцијал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ултуролошк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атус 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чла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родичног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маћинст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јатељи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соб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елативн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самље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заборавље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Физич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нтелектуал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пособност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ормал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елес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ас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смање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већана,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ормал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нтелигенциј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нормал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ул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лух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и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дир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внотеж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убитак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ког чул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;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ормал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тори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кретљивос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убитак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тори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0" y="242100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азуђениј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модел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болесника 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,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ачинил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J</a:t>
            </a:r>
            <a:r>
              <a:rPr b="0" i="1" lang="sr-Latn-C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Kreger</a:t>
            </a:r>
            <a:r>
              <a:rPr b="0" i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а сарадницим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Модел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22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адржа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р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широке груп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физиолошк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оци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сихолошк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ко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звал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ственим потребам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људ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рећу -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 веза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круже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3" name="Picture 2" descr="C:\Users\Mirjana Petrovic\Desktop\storage-in-Chilliwack.jpg"/>
          <p:cNvPicPr/>
          <p:nvPr/>
        </p:nvPicPr>
        <p:blipFill>
          <a:blip r:embed="rId1"/>
          <a:stretch/>
        </p:blipFill>
        <p:spPr>
          <a:xfrm>
            <a:off x="3708360" y="620640"/>
            <a:ext cx="1235160" cy="1197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79280" y="141264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Основ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људског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бић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ормално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е одржавају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међусобној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равнотеж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здравих људ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гледајућ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аспект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здравствене неге: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,,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Особ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адекват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физиолошк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функциј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ја има задовољавајућ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одуктивн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оцијални живот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опаж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мож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испољава мисл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осећањ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рист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интелектуал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пособност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вештин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јест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особ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о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функциониш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здрав начин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,,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Luckman,</a:t>
            </a:r>
            <a:r>
              <a:rPr b="1" i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i="1" lang="en-US" sz="2400" spc="-1" strike="noStrike">
                <a:solidFill>
                  <a:srgbClr val="464646"/>
                </a:solidFill>
                <a:latin typeface="Lucida Sans Unicode"/>
              </a:rPr>
              <a:t>Sorensen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68000" y="764640"/>
            <a:ext cx="8675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окументовањ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здравствен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нег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омогућав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сестрам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познај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орисник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дравствен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штит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ао јединк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ви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сихички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физички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социјални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руги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особености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евидентирај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орисников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ндивидуалне проблем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 тј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треб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лан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ег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циљев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реализациј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мог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атит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ви чланов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дравственог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тим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24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час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ај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оказ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алоз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звршен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ату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 време извршењ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тпис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медицинск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естре,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ој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ланирала 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реализовал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дравствен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ег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395280" y="2276640"/>
            <a:ext cx="8229600" cy="55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аспект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купљањ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датака важн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мат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му,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 утврђи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реба обратитит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себн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ажњ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Физиолошк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Емоционал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оцијал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нтелектуал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Picture 2" descr="C:\Users\Mirjana Petrovic\Desktop\storage-in-Chilliwack.jpg"/>
          <p:cNvPicPr/>
          <p:nvPr/>
        </p:nvPicPr>
        <p:blipFill>
          <a:blip r:embed="rId1"/>
          <a:stretch/>
        </p:blipFill>
        <p:spPr>
          <a:xfrm>
            <a:off x="3708360" y="620640"/>
            <a:ext cx="1235160" cy="1197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6612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Медицинс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стр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врш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снов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стринск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анамнез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аље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онтинуиран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аћењ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ђе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ласификоват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ем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оритет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оритет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рђујем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ем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тепену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гроженост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дрављ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живо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Picture 2" descr="C:\Users\Mirjana Petrovic\Desktop\storage-in-Chilliwack.jpg"/>
          <p:cNvPicPr/>
          <p:nvPr/>
        </p:nvPicPr>
        <p:blipFill>
          <a:blip r:embed="rId1"/>
          <a:stretch/>
        </p:blipFill>
        <p:spPr>
          <a:xfrm>
            <a:off x="3780000" y="115920"/>
            <a:ext cx="1234800" cy="1197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Као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лазишт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купљ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 процен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 касниј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ланир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реализациј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е корист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лекарс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ијагно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икупљени подац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чин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основу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стављање сестринск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ијагноз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треба болесник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Picture 2" descr="C:\Users\Mirjana Petrovic\Desktop\storage-in-Chilliwack.jpg"/>
          <p:cNvPicPr/>
          <p:nvPr/>
        </p:nvPicPr>
        <p:blipFill>
          <a:blip r:embed="rId1"/>
          <a:stretch/>
        </p:blipFill>
        <p:spPr>
          <a:xfrm>
            <a:off x="3780000" y="404640"/>
            <a:ext cx="1234800" cy="1197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748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ЗВОР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мар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олесник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одитељ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а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ало дет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итањ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кундар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ла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родиц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руг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лиц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з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посред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колин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кументациј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ланови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ственог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има,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руг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ручњац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ерцијар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говарајућ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литература 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–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струч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стринс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едицинск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литература,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ручн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купов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79280" y="836280"/>
            <a:ext cx="9144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ФАКТОР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КОЈ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УТИЧ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А ПРИКУПЉАЊ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ДАТАК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изичк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сихичк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емоционал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е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лесника 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дицин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тход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скуств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ез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дашњи стање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познав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умев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огађаја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ултуролошк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оцијал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рекл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чу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слов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ј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ужа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нос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мају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формаци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руч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пособнос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дицин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тр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324000" y="169992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НАЧИН</a:t>
            </a:r>
            <a:r>
              <a:rPr b="1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700" spc="-1" strike="noStrike">
                <a:solidFill>
                  <a:srgbClr val="464646"/>
                </a:solidFill>
                <a:latin typeface="Lucida Sans Unicode"/>
              </a:rPr>
              <a:t>ПРИКУПЉАЊА ПОДАТАК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Интервј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Метод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физикалног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роцењивањ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осматрањ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палпациј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аускултациј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разн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технике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мерењ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Анализа</a:t>
            </a:r>
            <a:r>
              <a:rPr b="0" lang="sr-Latn-CS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документ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НТЕРВЈ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говор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ј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з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процес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ђусоб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м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ербални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формациј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змеђ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дицин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нос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руг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лиц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интересован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његов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ао 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змеђ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дицин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ругих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члано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г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ји учеству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ретман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893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говор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аз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купљ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ицијалних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еб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наче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 сестринску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анамнезу 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луж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варањ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снове 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аз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четн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н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еагов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бле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тврђив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његов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вар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ицијалног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ла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а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в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руге етап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с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кључујућ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евалуациј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говор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реб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лагоди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вег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зраст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бразовањ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телектуалн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ултуролошк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оцијалним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руги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ебност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собеностим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рисни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67708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ицијалн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говор,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едицинс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 правил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чи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ак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шт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дстав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говорник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ме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зиме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ункциј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ституциј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бјасн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циљ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разговор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помињућ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ћ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тави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ун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ит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ак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обил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иш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безбедил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љ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снов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формациј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обијених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вом контакт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лесник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чињав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ијагно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епоручуј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ође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наменски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ипремљеног разговор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Кроз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ланиран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разговор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утврдић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ил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вакодневног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живљењ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чин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ј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адовољава основн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требе, самосталн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л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з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моћ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других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лиц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Шт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арактериш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вакодневн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живот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кључујући породиц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са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лег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ијатељ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Шт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ник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адашњој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т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лик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разум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вој здравствен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обле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ј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чин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ник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реагуј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адашњ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ање с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физичког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 психолошког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оциолошког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ултурног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аспект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ак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агледав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епрек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ј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г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онемогућавај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адовољи свој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треб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ј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јважниј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сихолошк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облем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аспекта нег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ак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ајчешћ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реагуј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тресним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итуацијама, адаптибилно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ли неадекватн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акв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ретходн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скуств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т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систем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Н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Од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ог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какв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моћ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јединац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може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очекуј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Д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л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болесник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м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себих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жељ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гледу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адовољавањ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његових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0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464646"/>
                </a:solidFill>
                <a:latin typeface="Lucida Sans Unicode"/>
              </a:rPr>
              <a:t>исхран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68360" y="692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окументовањ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здравствене нег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омогућав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сестрама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ај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вид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бољшањ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тј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огоршањ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тања корисник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едстављ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ихватљивиј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ачин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онтрол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опринос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ефикаснијем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коришћењ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тручних потенцијалних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служб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едставља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основ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омогућуј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страживачк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рад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а пољ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дравствен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нег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опринос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развој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унапређењу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профес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Важан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конски</a:t>
            </a:r>
            <a:r>
              <a:rPr b="1" lang="sr-Latn-C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докумен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677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ФИЗИКАЛНИ</a:t>
            </a:r>
            <a:r>
              <a:rPr b="1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ЕГЛЕД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к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тој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к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збиља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блем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ис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вре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матрањ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апочињем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д </a:t>
            </a:r>
            <a:r>
              <a:rPr b="1" lang="en-US" sz="2400" spc="-1" strike="noStrike">
                <a:solidFill>
                  <a:srgbClr val="464646"/>
                </a:solidFill>
                <a:latin typeface="Lucida Sans Unicode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к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м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елик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здравствени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потребља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ето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,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ла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ог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,: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ла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врат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руд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ш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абдомен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ениталиј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екстремитет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ж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лузокож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Физикал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оцен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ож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бит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истеми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(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ардиоваскуларни,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еспираторни,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локомоторни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ул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-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ид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лух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ирис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дир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укус, кожа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уролошк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ентал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татус,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ишић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 кости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астоинтестиналн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тракт, аногенитални,...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79280" y="981000"/>
            <a:ext cx="8964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СМАТРАЊ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 ИСПИТИВАЊ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ОСМАТРАЊЕ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(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инспекциј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Болесни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треб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истематск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матрати од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вог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нтакт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к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разговарам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р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обављањ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медицинск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нтервенциј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к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г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негујем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посматрању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корист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в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ул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ешће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чул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вид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слуха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и/или</a:t>
            </a:r>
            <a:r>
              <a:rPr b="0" lang="sr-Latn-CS" sz="2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464646"/>
                </a:solidFill>
                <a:latin typeface="Lucida Sans Unicode"/>
              </a:rPr>
              <a:t>доди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964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Н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ИКУПЉЕНИХ ПОДАТА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мисаон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чин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ј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а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вак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корак 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купљањ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 болесник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себно 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аж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аз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ницијалног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купљања података,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т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шт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в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ледећ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етапе процес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снивај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њој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ви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ваљаност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Основ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процен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су</a:t>
            </a:r>
            <a:r>
              <a:rPr b="1" lang="sr-Latn-CS" sz="2800" spc="-1" strike="noStrike">
                <a:solidFill>
                  <a:srgbClr val="464646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ц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из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к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намнез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ц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ункционал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ц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ом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тањ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24000" y="1208160"/>
            <a:ext cx="88200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Lucida Sans Unicode"/>
              </a:rPr>
              <a:t>ДОКУМЕНТОВАЊЕ ПОДАТАК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Документовањ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так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ј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аставни де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јединач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етап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оцес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дравствен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фаз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тврђивањ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треб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за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негом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рикупљен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подац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носе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дговарајући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образац</a:t>
            </a:r>
            <a:r>
              <a:rPr b="0" lang="sr-Latn-CS" sz="2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464646"/>
                </a:solidFill>
                <a:latin typeface="Lucida Sans Unicode"/>
              </a:rPr>
              <a:t>сестринске анамнезе,..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Title 1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010360" cy="1225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" descr="C:\Users\Mirjana Petrovic\Desktop\carska-bara.jpg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604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560" y="1092240"/>
            <a:ext cx="86756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окументациј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омогућуј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се здравствен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нег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прикаж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као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Интегрални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ео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савременог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лечењ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и континуираног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збрињавањ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пацијенат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Област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нуди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широк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могућности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за статистичку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обраду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податак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истраживачки рад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елатност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кој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им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ефинисан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специфичан садржај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рад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свој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карактеристичн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обележја, јасан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пут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даљег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развоја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унапређења сестринск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теорије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пракс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536400" y="1596960"/>
            <a:ext cx="7785360" cy="1725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Mirjana Petrovic\Desktop\Palliative-Care.jpg"/>
          <p:cNvPicPr/>
          <p:nvPr/>
        </p:nvPicPr>
        <p:blipFill>
          <a:blip r:embed="rId2"/>
          <a:stretch/>
        </p:blipFill>
        <p:spPr>
          <a:xfrm>
            <a:off x="0" y="4076640"/>
            <a:ext cx="4500720" cy="27813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C:\Users\Mirjana Petrovic\Desktop\unnamed.jpg"/>
          <p:cNvPicPr/>
          <p:nvPr/>
        </p:nvPicPr>
        <p:blipFill>
          <a:blip r:embed="rId3"/>
          <a:stretch/>
        </p:blipFill>
        <p:spPr>
          <a:xfrm>
            <a:off x="4427640" y="4076640"/>
            <a:ext cx="4716360" cy="27813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250920" y="1557360"/>
            <a:ext cx="86040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Медицинске сестр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техничари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лекари који раде у примарној и секундарној здравственој заштити, у кућном лечењу, у домовима за старе, свакодневно се у свом раду суочавају са великим бројем болесник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је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болест  доспела у последњи стадијум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којима треба олакшати болове и бројне симптоме који прате болест и омогућити им да крај живота дочекају са што мање патњ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12:54Z</dcterms:created>
  <dc:creator>ACERF1</dc:creator>
  <dc:description/>
  <dc:language>en-US</dc:language>
  <cp:lastModifiedBy>Mirjana Petrovic</cp:lastModifiedBy>
  <dcterms:modified xsi:type="dcterms:W3CDTF">2021-01-28T12:46:11Z</dcterms:modified>
  <cp:revision>375</cp:revision>
  <dc:subject/>
  <dc:title>VAŽNOST KOMUNIKACIJE U RADU MEDICINSKIH SESTARA/TEHNIČARA</dc:title>
</cp:coreProperties>
</file>