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0CF-A9BB-428D-B6BE-CCFAAE89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5BB-9376-48D7-8765-D7B67CD8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243-7A0B-47F2-91FE-A992DA0A1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621-E685-47BA-B013-3AC28C41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B0D9-0D21-4A2A-AE6E-D7B1B3D1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2438-69D4-4D05-B47F-C7CB085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EBE1-9589-4557-988A-8AF3A489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BEC9-EDE5-4804-9E59-AB22AD88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BC35-9981-4D33-8334-7FC178C1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6572-223F-44A1-9F67-25DED63C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32AC-3718-4162-AE60-CA07DC19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61C-BDFB-473D-8AED-61952AF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16F4-FB96-41F6-AC20-225D90F6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FD2-4F4C-4441-A680-A9493CE1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04F7-47BD-4137-BE1C-783C2BD2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A010-4261-4BBC-82A4-D9F68FE3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54EB-5A1A-43EE-9050-407061DF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286D-D777-4FC1-8C5C-EFBEBC8A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4E1D-C00D-4DF0-87B9-0058704C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8F7E6-9C24-48DA-9F47-CFAE1102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3B20-99A8-4137-A05C-1219CDC9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A9BFB-E949-4455-A06C-D34F34B2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B6C-0A6D-473D-84FB-1D45EF31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31D4-C8EA-48BD-92F0-AEEED87E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7874A-6A61-4C77-BE79-EB5DDADE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C59E-BFC3-4E11-A4F7-76475A6D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D39C-EF23-4FCD-B269-7B2D613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C2474-AD67-4B10-AFAD-84F11250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095A-BD1D-4E2D-8F51-7EF1B432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1AB0A-DC46-4E26-9C9F-858D154D0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71A78-0F07-4166-9FE7-F94D0335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B7E1F-5BA8-44B3-B558-2430F285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C6EE2-D4E6-4725-929A-E0663230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6E9-5727-4568-AE3C-4E2CDA17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1E43-A1EB-45F9-873C-0E14B8F6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B5636-C558-4FBC-9718-35822399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BAFE1-3BCB-491F-A250-B8525C4A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CDF9-A4B7-4DE5-AE73-F775958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825F4-989D-4646-B52C-586277B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6CF8F-9EEA-4FF6-A44A-F5513314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2AB1D-5C11-4E74-95DF-6EDF1DEA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6BB2F-53C5-4355-88BE-494AC7B8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651B5-EC9D-4A60-A3DC-CFDCF06C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F9D6-3181-46A9-AF6F-2A236E71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D26-26E0-46EA-9C55-8265E4E5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F2F-EA4B-4386-AF28-2939FDF2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D389-0137-4861-96ED-5D07BB9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5787-FA25-435D-8A8B-58F166FD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E69B-A11B-4B66-A835-C11401CC8947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8F3D-12EB-477A-B614-A32492D28FC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87F5-78C9-4C30-92C5-14E35327FD9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21AD-0B1A-4638-B9D4-9061A58E848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imes New Roman"/>
                <a:ea typeface="Times New Roman"/>
              </a:rPr>
              <a:t>Сестринска комуникација са пацијентом–вештина комуникације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609480" y="401760"/>
            <a:ext cx="7772400" cy="1476360"/>
          </a:xfrm>
          <a:prstGeom prst="rect">
            <a:avLst/>
          </a:prstGeom>
          <a:ln w="0">
            <a:noFill/>
          </a:ln>
        </p:spPr>
      </p:pic>
    </p:spTree>
  </p:cSld>
  <p:transition advTm="8000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и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нципи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ме</a:t>
            </a:r>
            <a:r>
              <a:rPr b="0" lang="sr-R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ог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дника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цијента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бална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вербална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иљу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фикасније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лацији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дник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требно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премљену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исту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тањ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ећање</a:t>
            </a: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гурност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структивна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конструктивна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ансфер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1" lang="sr-Latn-C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нтратрансфер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04040"/>
                </a:solidFill>
                <a:latin typeface="Trebuchet MS"/>
              </a:rPr>
              <a:t>   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1143000" y="731520"/>
            <a:ext cx="6958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3560" algn="ctr">
              <a:lnSpc>
                <a:spcPct val="7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што је важна добра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а у здравству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560" algn="ctr">
              <a:lnSpc>
                <a:spcPct val="7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а је основ сваког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ђуљудског однос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чином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општавам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б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ругим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ом комуникацијом постижемо бољ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 и поверење болесник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ижемо бољи однос с другим сарадницим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годну атмосферу на радном месту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ијамо боље резултате рада и здравствен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ге за болесник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3560"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ће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чно задовољство послом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ављам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469800" y="291960"/>
            <a:ext cx="8309160" cy="1384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68360" y="1555560"/>
            <a:ext cx="822960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стичемо свој лични развој 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зревањ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бољшавамо личне и професионалн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казујемо да ценимо друге људ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ебн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н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8" descr="14"/>
          <p:cNvPicPr/>
          <p:nvPr/>
        </p:nvPicPr>
        <p:blipFill>
          <a:blip r:embed="rId2"/>
          <a:stretch/>
        </p:blipFill>
        <p:spPr>
          <a:xfrm>
            <a:off x="4067280" y="3429000"/>
            <a:ext cx="4932360" cy="3213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71280" y="1267920"/>
            <a:ext cx="727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о у одређеној ситуациј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јим брижним и пажљивим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хођењем с болесником у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кој мери успем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докнадити неадекватн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лове и смањити болесников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тње и страхове, онда см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игли битну сврху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е неге.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мпатију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ксимум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олест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ења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аког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овека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 појачава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ећај властите слабости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уочен с властитом слабошћу болесник тражи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ечи утехе и прихвата помоћ друге особе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ваки сусрет с медицинским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обљем, сваки њихов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ест и реч,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едставља лек за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болесника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за боље разумевање болесникових патњи и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ахова, нужно је</a:t>
            </a:r>
            <a:r>
              <a:rPr b="1" lang="bs-BA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ктивирати властите емпатијске снаге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293328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акодневан рад у здравом 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ом стручном тиму подстич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овољство запослених и омогућава бољ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рављање временом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шавањем несугласица и сукоб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ећава се сложност тим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услови успешног тимскога рада су: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следна комуникација, слушање,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вештаји о учињеном, редовни састанци,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хватање разлика у мишљењу,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државање договора, уважавање,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твореност, подршка и поверењ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клађен тимски приступ здравственој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зи постиче болесника на бољу сарадњу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4" descr="ruke1"/>
          <p:cNvPicPr/>
          <p:nvPr/>
        </p:nvPicPr>
        <p:blipFill>
          <a:blip r:embed="rId1"/>
          <a:stretch/>
        </p:blipFill>
        <p:spPr>
          <a:xfrm>
            <a:off x="611280" y="115920"/>
            <a:ext cx="1946160" cy="25210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457200" y="68256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68360" y="2060640"/>
            <a:ext cx="8229600" cy="396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комуникацију у здравству спада и међусобна комуникација здравственог особља. На данашњем степену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оја медицинске струке по</a:t>
            </a:r>
            <a:r>
              <a:rPr b="0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вилу никада сам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дник не решава здравствене проблеме појединог болесника. Реч је, дакле, о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имском раду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 томе култура комуникације не само да олакшава рад него се одражава и на болеснику, који преноси своју историју болести и осталу документацију и чит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али и слуша различите коментаре појединих сарадник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1792440" y="4237200"/>
            <a:ext cx="6608520" cy="12794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последње врем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 све више наглашава потреба доброг информисања болесника о свему у вези с његовом болест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 само да болесник жели и има право бити информисан о својој болести, него је и медицинском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обљу потребна сарадња с информисаним болесником током дијагностичког поступка и лечењ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аки дијагностички поступак има одређени степен ризика и болесник мора то знати, каткад и учествовати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одлучивању о избору појединих поступака. Исто је и с применом одређеног начина лечења које се не сме спроводити без болесникове сагласности. </a:t>
            </a:r>
            <a:r>
              <a:rPr b="1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нику се мора, на њему разумљив начин, кратко и јасно рећи о каквој је болести реч, због чега је потребно начинити 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говарајуће анализе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након тога му протумачити</a:t>
            </a:r>
            <a:r>
              <a:rPr b="1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лазе и опет га на одговарајући начин информисати о поступку лечењ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54936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но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ати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образац за тзв.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нформисани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истанак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за све врсте претрага, који ће болесник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(или његов старатељ)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писати и тако потврдити своју сагласност, након добијених информација. Тако добијене информације су потребне, али ипак не могу заменити разговор с лекаром, јер болесник нема могућност постављања питања. За добру комуникацију лекара и болесника потребан је директан разговор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4" descr="MPj04385050000[1]"/>
          <p:cNvPicPr/>
          <p:nvPr/>
        </p:nvPicPr>
        <p:blipFill>
          <a:blip r:embed="rId1"/>
          <a:stretch/>
        </p:blipFill>
        <p:spPr>
          <a:xfrm>
            <a:off x="6012000" y="3357720"/>
            <a:ext cx="2490480" cy="324000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1483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хваљујући великим научним и технолошким достигнућима у последњим деценијама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м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го се тога променило у начину комуникације међу људима.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7" name="Picture 2" descr="D:\Users\Mirjana Janicijevic\Desktop\Služba-za-zdravstvenu-zaštitu-dece.jpg"/>
          <p:cNvPicPr/>
          <p:nvPr/>
        </p:nvPicPr>
        <p:blipFill>
          <a:blip r:embed="rId1"/>
          <a:stretch/>
        </p:blipFill>
        <p:spPr>
          <a:xfrm>
            <a:off x="1258920" y="4789440"/>
            <a:ext cx="6697800" cy="2068560"/>
          </a:xfrm>
          <a:prstGeom prst="rect">
            <a:avLst/>
          </a:prstGeom>
          <a:ln w="0">
            <a:noFill/>
          </a:ln>
        </p:spPr>
      </p:pic>
    </p:spTree>
  </p:cSld>
  <p:transition advTm="9000"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210312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авља се питање, што се може урадити за побољшање културе комуникације у здравству. Одговор није једноставан. Без потребне комуникацијске културе лечење се своди на технику и администрацију, а то није довољно за помоћ болесном човеку. Јасно је да медицинска струка не може сама битно утицати на општу културу, па и на средства јавне комуникације, али морамо настојати да се и ту нешто учини - упозоравањем, утицајем кад год је могуће на политичке одлук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те властитим поступцима у струц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2" name="AutoShape 4"/>
          <p:cNvSpPr/>
          <p:nvPr/>
        </p:nvSpPr>
        <p:spPr>
          <a:xfrm rot="2418600">
            <a:off x="684000" y="620640"/>
            <a:ext cx="1150920" cy="1079640"/>
          </a:xfrm>
          <a:prstGeom prst="flowChartMagneticTape">
            <a:avLst/>
          </a:prstGeom>
          <a:solidFill>
            <a:srgbClr val="ff3300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MPj04385850000[1]"/>
          <p:cNvPicPr/>
          <p:nvPr/>
        </p:nvPicPr>
        <p:blipFill>
          <a:blip r:embed="rId1"/>
          <a:srcRect l="0" t="0" r="-96924" b="-1225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32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иљ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ључуј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постављањ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к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ако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пешн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им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спектим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а</a:t>
            </a:r>
            <a:r>
              <a:rPr b="1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бробит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ег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м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матрањ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д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орн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оптерећен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ом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њихов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ост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мањ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уку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аје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ањена</a:t>
            </a:r>
            <a:r>
              <a:rPr b="1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1111"/>
          <p:cNvPicPr/>
          <p:nvPr/>
        </p:nvPicPr>
        <p:blipFill>
          <a:blip r:embed="rId1"/>
          <a:srcRect l="-6118" t="-54809" r="-206586" b="-413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3276360" y="620280"/>
            <a:ext cx="5483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еб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чај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г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мањ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ос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ци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цира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хте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нзибилнос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“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с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”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н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мирућ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9640" y="155736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Ње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а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леран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сок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уд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уње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де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тм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кар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писа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в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матра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ст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б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цир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звоља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мен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клонос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а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међ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3759120"/>
            <a:ext cx="8229600" cy="26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љ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ајам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умева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рук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нос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игу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декват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зултат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Picture 4" descr="C:\Users\Mirjana Petrovic\Desktop\dreamstime_5369211.jpg"/>
          <p:cNvPicPr/>
          <p:nvPr/>
        </p:nvPicPr>
        <p:blipFill>
          <a:blip r:embed="rId1"/>
          <a:stretch/>
        </p:blipFill>
        <p:spPr>
          <a:xfrm>
            <a:off x="4284720" y="0"/>
            <a:ext cx="4464000" cy="3500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Rectangle 2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206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1966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руштве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игур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ме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ћ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аниц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чно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и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кари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љубаз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јатељск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ме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виш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лиск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Њихов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ступ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б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руктурир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то подразмева да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њихов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шти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ључу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итива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ук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Picture 1026" descr="zucuncu_xx"/>
          <p:cNvPicPr/>
          <p:nvPr/>
        </p:nvPicPr>
        <p:blipFill>
          <a:blip r:embed="rId2"/>
          <a:srcRect l="4158" t="15235" r="0" b="19853"/>
          <a:stretch/>
        </p:blipFill>
        <p:spPr>
          <a:xfrm>
            <a:off x="3203640" y="4292640"/>
            <a:ext cx="2854440" cy="2155680"/>
          </a:xfrm>
          <a:prstGeom prst="rect">
            <a:avLst/>
          </a:prstGeom>
          <a:ln w="190440">
            <a:solidFill>
              <a:srgbClr val="ffffff"/>
            </a:solidFill>
            <a:miter/>
          </a:ln>
        </p:spPr>
      </p:pic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иту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б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би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ређе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а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ав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дучав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б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иш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за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т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ађе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овољ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рсисход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нос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ључу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круже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међ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а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уж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г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ff3300"/>
              </a:buClr>
              <a:buSzPct val="13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ере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ћ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н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ај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д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ај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чи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г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не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позн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реш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мог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вик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40428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ипов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ришће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ључу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рбал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вербал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шти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ас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дностав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чк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ременск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декватнос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вербал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кључу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вор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л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раз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ц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дир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дир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о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чи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диру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ћ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вор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ништ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з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ајам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ере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5" name="Picture 4" descr="C:\Users\Mirjana Petrovic\Desktop\download.jpg"/>
          <p:cNvPicPr/>
          <p:nvPr/>
        </p:nvPicPr>
        <p:blipFill>
          <a:blip r:embed="rId1"/>
          <a:stretch/>
        </p:blipFill>
        <p:spPr>
          <a:xfrm>
            <a:off x="2340000" y="4076640"/>
            <a:ext cx="3708360" cy="2349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уб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дир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об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лес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лаше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бо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о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њ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рук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ри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ој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иђ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б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горш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њ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гор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гућ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ценари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д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цирањ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ст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ш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ма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гативн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штетн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нашање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sluanjeaf5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2031480"/>
            <a:ext cx="339408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век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лушати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ацијената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но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што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ни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говоре</a:t>
            </a:r>
            <a:r>
              <a:rPr b="0" lang="hr-HR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39640" y="1197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 се рећи да је дошло до промена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култури комуникације, која је својствена свакој друштвеној средини и која је саставни део опште културе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о се култура дефинише као скуп традиционално условљених друштвених норми које се односе на сва подручја живота неког друштва, онда је комуникација један од темељних начина изражавања култур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ултура комуникације је одраз опште културе друштв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advTm="24000"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539640" y="15570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не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ва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з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атак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и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реб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опход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таћ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в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чи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г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прав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лик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међ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иво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мр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з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зи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живља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в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персонал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штинск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ажнос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акој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лас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живо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л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д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ебно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нача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539280" y="4724280"/>
            <a:ext cx="81471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а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позната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о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R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дан од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лавни</a:t>
            </a:r>
            <a:r>
              <a:rPr b="0" lang="sr-R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х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зрок</a:t>
            </a:r>
            <a:r>
              <a:rPr b="0" lang="sr-R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блема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у</a:t>
            </a:r>
            <a:r>
              <a:rPr b="0" lang="hr-HR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Picture 4" descr="itf094085"/>
          <p:cNvPicPr/>
          <p:nvPr/>
        </p:nvPicPr>
        <p:blipFill>
          <a:blip r:embed="rId1"/>
          <a:stretch/>
        </p:blipFill>
        <p:spPr>
          <a:xfrm>
            <a:off x="2305080" y="219240"/>
            <a:ext cx="4572000" cy="4217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11280" y="1197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јој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ирод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снова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радњ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руг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дицинск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обљ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цир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иљ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у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декват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ретм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дицинск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тпор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ос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цирањ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ва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сок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в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овољст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рисник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зврснос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р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реча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станак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решк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jobs-nurse-622817149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3068280"/>
            <a:ext cx="8229600" cy="2260440"/>
          </a:xfrm>
          <a:prstGeom prst="rect">
            <a:avLst/>
          </a:prstGeom>
          <a:solidFill>
            <a:srgbClr val="663300">
              <a:alpha val="50000"/>
            </a:srgbClr>
          </a:solidFill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н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умевањ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ћен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ука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ју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жљиво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шат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јавит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је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равно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чно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01480" y="10522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талн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лог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руштвени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акцијам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акођ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пособ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е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декват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чи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равнос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персоналних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7" name="Picture 5" descr="med-sestra"/>
          <p:cNvPicPr/>
          <p:nvPr/>
        </p:nvPicPr>
        <p:blipFill>
          <a:blip r:embed="rId1"/>
          <a:stretch/>
        </p:blipFill>
        <p:spPr>
          <a:xfrm>
            <a:off x="3059280" y="3068640"/>
            <a:ext cx="3257280" cy="3122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68360" y="1267920"/>
            <a:ext cx="8229600" cy="26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лог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вострук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итивач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ставник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ан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ушалац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тави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правн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итањ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т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рем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прављат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лого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структор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носећ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ит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68360" y="9810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икас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шти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инств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нефит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мисл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ље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овољст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т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о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рисник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луг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ољег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довољств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јо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ијеро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истем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елин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роз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тивиса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нажен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hr-H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31111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дицинск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т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исок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в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поштовањ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ћ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зултират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штовањем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них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ј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фесионалн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рин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вом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ед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руг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фесионалц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рај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лн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оват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им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ећ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ластит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игурност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штовањ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јих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цијенат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радник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одавац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дицинск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стр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дицинског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им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вноправн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ствоват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к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бр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н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ој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ао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ака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сигурност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уши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амопоштовањ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нањ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ајјач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ружје</a:t>
            </a:r>
            <a:r>
              <a:rPr b="0" lang="pl-PL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1" name="Picture 4" descr="C:\Users\Mirjana Petrovic\Desktop\medicinske-sestre-a4effa0adcd3779869392d5af3549039_view_article_new.jpg"/>
          <p:cNvPicPr/>
          <p:nvPr/>
        </p:nvPicPr>
        <p:blipFill>
          <a:blip r:embed="rId1"/>
          <a:stretch/>
        </p:blipFill>
        <p:spPr>
          <a:xfrm>
            <a:off x="611280" y="189000"/>
            <a:ext cx="7273800" cy="2663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716000" y="1268280"/>
            <a:ext cx="3970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Високо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образовање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императив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је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сестринске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професије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Trebuchet MS"/>
              </a:rPr>
              <a:t>данас</a:t>
            </a:r>
            <a:r>
              <a:rPr b="0" lang="pl-PL" sz="2200" spc="-1" strike="noStrike">
                <a:solidFill>
                  <a:srgbClr val="000099"/>
                </a:solidFill>
                <a:latin typeface="Trebuchet MS"/>
              </a:rPr>
              <a:t>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3" name="Picture 7" descr="knjiga-i-zagrljaj"/>
          <p:cNvPicPr/>
          <p:nvPr/>
        </p:nvPicPr>
        <p:blipFill>
          <a:blip r:embed="rId1"/>
          <a:stretch/>
        </p:blipFill>
        <p:spPr>
          <a:xfrm>
            <a:off x="395280" y="836640"/>
            <a:ext cx="3809880" cy="4896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1"/>
          <a:stretch/>
        </p:blipFill>
        <p:spPr>
          <a:xfrm>
            <a:off x="1792440" y="4211640"/>
            <a:ext cx="6638760" cy="130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дравствено особље се мора на одговарајући начин едуковати у култури здравствене неге и комуникацији с болесницима, а посебно је потребно организовати здравство на одговарајући начин да се постигне уштеда на времену и да се медицинско</a:t>
            </a:r>
            <a:r>
              <a:rPr b="1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обље може више посветити комуницирању с болесницима.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5" descr="rukovanje"/>
          <p:cNvPicPr/>
          <p:nvPr/>
        </p:nvPicPr>
        <p:blipFill>
          <a:blip r:embed="rId2"/>
          <a:stretch/>
        </p:blipFill>
        <p:spPr>
          <a:xfrm>
            <a:off x="5435640" y="4292640"/>
            <a:ext cx="3048120" cy="21524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95280" y="83664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99"/>
                </a:solidFill>
                <a:latin typeface="Trebuchet MS"/>
              </a:rPr>
              <a:t>	</a:t>
            </a:r>
            <a:r>
              <a:rPr b="0" lang="bs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културом</a:t>
            </a:r>
            <a:r>
              <a:rPr b="0" lang="bs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ужем смислу речи</a:t>
            </a:r>
            <a:r>
              <a:rPr b="0" lang="bs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атра се у првом реду сусретљивост, љубазност, узајамно помагање - речју, пристојност у међуљудским односима, што се може назвати и бонтон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турне навике стичемо</a:t>
            </a:r>
            <a:r>
              <a:rPr b="0" lang="bs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рвом реду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одичн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ли и школск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значајну улогу игра и</a:t>
            </a:r>
            <a:r>
              <a:rPr b="0" lang="bs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а друштвена околин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анашње време средства јавне комуникације изразито утичу на обликовање културе уопште, а посебно на културу комуникациј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6" descr="nurse6"/>
          <p:cNvPicPr/>
          <p:nvPr/>
        </p:nvPicPr>
        <p:blipFill>
          <a:blip r:embed="rId1"/>
          <a:srcRect l="0" t="-1537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2560" y="-27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АШ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ЉУБАЗНОС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ЧЕТАК</a:t>
            </a:r>
            <a:r>
              <a:rPr b="1" lang="bs-BA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ВАКО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sr-R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ЕЧЕЊ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!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542880" y="1341360"/>
            <a:ext cx="7997760" cy="12128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здравству се осећа промена културе комуникације, са различитим последицам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муникација у здравственој нези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један од основних фактора и о томе се све више говор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ије посреди само однос здравственог особља према болесницима него и узајамна комуникација особља у свакодневном раду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спех</a:t>
            </a:r>
            <a:r>
              <a:rPr b="0" lang="bs-B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лечењу везан је и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комуникацију унутар здравственог тима, а промене у култури комуникације </a:t>
            </a:r>
            <a:r>
              <a:rPr b="0" lang="sr-R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у и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ту видљив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8600" y="691920"/>
            <a:ext cx="8610480" cy="5257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уг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азир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ог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уж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уг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лекар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естр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ог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уг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цијент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рх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аоц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нес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ук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вом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ј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дник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цијент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нут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04920" y="765000"/>
            <a:ext cx="8534160" cy="4824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реб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еду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вак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дравствен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дник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га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пе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постав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фикаса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позна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прек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асан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требн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мат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асн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ик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ном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елит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општит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ук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општит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жет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 с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ерит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ук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асн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авилн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хваћен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04920" y="228600"/>
            <a:ext cx="8534160" cy="6324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040"/>
                </a:solidFill>
                <a:latin typeface="Trebuchet MS"/>
              </a:rPr>
              <a:t>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забра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тод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сан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ч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вор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естикулациј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“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говор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..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риг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цијенту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“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едиј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рук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”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ефикасн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ша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7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ави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ит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8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ди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ијалог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24000" y="476280"/>
            <a:ext cx="8610480" cy="59371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ако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бољшат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лиц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упак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новн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лиц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•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ш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•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умев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•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ршк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•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уосећањ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•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ав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вет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пута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дардн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упак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адр</a:t>
            </a:r>
            <a:r>
              <a:rPr b="0" lang="sr-R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ж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3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фаз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почињ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ток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вршавањ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муникације</a:t>
            </a:r>
            <a:r>
              <a:rPr b="0" lang="sr-Latn-C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12:54Z</dcterms:created>
  <dc:creator>ACERF1</dc:creator>
  <dc:description/>
  <dc:language>en-US</dc:language>
  <cp:lastModifiedBy>Bogdan</cp:lastModifiedBy>
  <dcterms:modified xsi:type="dcterms:W3CDTF">2021-01-29T11:24:25Z</dcterms:modified>
  <cp:revision>142</cp:revision>
  <dc:subject/>
  <dc:title>VAŽNOST KOMUNIKACIJE U RADU MEDICINSKIH SESTARA/TEHNIČARA</dc:title>
</cp:coreProperties>
</file>